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AA0-0B61-43D1-8669-D446822D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82E-22A6-4EF5-B80C-4BC1D98F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09B-73FF-4AB5-8CE2-52A5FA1F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B9B-9591-44AC-9E22-0935A2DD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604D-C531-4936-B73C-9E5EA631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E8D6-8179-4D5B-B21B-D37E341A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59CD-C439-45E7-8CD0-656EEB92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6C75-5D26-47C5-A13C-9569B576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DA42-9C71-4D57-99CF-794D208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094D-1B1A-41E0-8518-9986DBFA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2287-222E-47FD-8C52-3DCEF4EF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202-68C4-42E5-AD1A-A30F3B38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7BF1-17FF-4B11-9E31-CF2394B7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A19D-420D-4006-A526-49FCDBCA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ED99-46C0-4B3C-BC21-AAAB21B3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3112-CD39-49E7-A821-004A014D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02C7-D457-41B7-A8D5-A4672998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DDD-2996-443E-B442-47D2DB0A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8E2-4F69-4BC9-9DFB-0C5240D1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C45-099A-42FF-B9C6-30D1227C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B78-6323-4338-A205-2479A6D0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360-6029-472F-B438-1B07A4C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6DD-B5C3-447C-9D04-EDE37F2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96B-06AA-414B-93E2-DDDE0DA0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800-FD9C-4D10-A01B-E3C9B4E9492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CB67-36C7-429C-BBD9-B3F440757CE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686160"/>
            <a:ext cx="6870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thousands of these cards are sent every year on the same day. Very often the writers are anonymous but the words of love are necessary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706440" y="54097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5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8036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St. Valentines card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6:03:0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